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26C-E501-4714-BD85-257F653C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779-3189-4905-8167-2EF389FD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A1B-C84B-4C0C-9033-111C91C3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735-A7AE-4B9C-9F2B-8B153E59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6DC0-DA54-485F-B41C-32AE25D9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AA9C-2C9E-424A-97B4-DB6040BB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DFD5-2834-4931-BA81-1E92E7EA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6F11-680E-487B-83D3-7A93AF43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5AD3-1DD3-4256-92FA-F728E64B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F5E0-DB86-4D66-B399-967E8EB6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84B9-5EDE-41BD-B578-21E0C8B4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0CA-D4D4-476E-921E-A8CAA5BB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D5F6-9CB5-461F-B86F-CEA7D7A2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8950-2049-43FA-9F05-2D9A0C73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096D-AD2A-489C-8FF9-12B1E26B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01CC-52AC-4100-9E50-4B77F274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01B7-49AE-4C5D-8D5C-95668BD2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110-911C-439F-9FEF-6E012156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F99-037A-4BCE-BE04-8945ECFB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02D-4B81-45CD-B624-1B641A09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D1B-103D-48BB-ADA9-B3B9D45F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47F-1445-4E8B-9567-87D216EC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162-5644-41D6-B4E4-C9CFA169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F6B-7E24-40CC-8FB6-8FF415F1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FE91-88C1-4803-AEA3-AC95DC3131A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CC15-26CF-4339-8E95-3A3EAFEC24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13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Управление качеством и надежностью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Повышение надежности проектируемой техники достигается следующими мероприятиями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прощением схемных реш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бором наиболее надежных комплектующих элементов и других технических издел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работкой схем с ограниченными последствиями отказов издел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Повышение надежности проектируемой техники достигается следующими мероприятиями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нижением механических нагрузок, облегчением электрического, теплового и других режимов работы издел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менением резервных элементов и подсистем, механизмов, блоков и др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андартизацией и унификацией комплектующих элементов и изделий в цел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менением элементов и объектов встроенного контрол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втоматизацией проверок и оценок технического состояния исследуемых объ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В техническом задании заказчика на разработку образцов техники задаются: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требуемая вероятность безотказной работы объекта при выполнении поставленной задачи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( t 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наработка на отказ  t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) требуемое значение коэффициента готовности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) средние квадратические отклоне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вероятности безотказной работы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σ(Р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работки на отказ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σ(Т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среднего времени восстановления работоспособного состояни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σ(Т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Предприятием-разработчиком определяются следующие исходные данные: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интенсивность отказов издели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время работы элементов, составных частей в составе изделия при выполнении им поставленной задачи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среднее время восстановления работоспособного состояния изделий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средние квадратические откло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нтенсивности отказов издели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σ (λ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реднего времени восстановления работоспособного состояни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σ(Т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коэффициент эксплуатаци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К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учитывающий влияние механических перегрузок (вибраций, ударов, линейных ускорений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) коэффициенты, учитывающие влияние температуры окружающей среды, электрические нагрузки, влияние влажности на негерметизированную влагонезащищенную аппаратуру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спределение показателей надежности может производиться между агрегатами, системами и машинами комплекса, совместно выполняющими поставленную задачу, и между отдельными составными частями (сборочными единицами) агрегатов, маш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348000" y="3855960"/>
                <a:ext cx="287964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Σ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Σ</m:t>
                                </m:r>
                              </m:sub>
                            </m:sSub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начения показателей надежности, заданные в ТЗ, могут быть распределены между составными частями машин, агрегатов следующими методам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методом весовых коэффициен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методом минимальных затрат на изготовление агрегата.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Метод весовых коэффициентов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роятность отказа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й системы (сборочной единицы)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t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есть функция, зависящая от интенсивности отказов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λ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времени работы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ru-RU" sz="3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 как суммарная интенсивность отказов системы является функцией числа элементов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λ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то можно записать следующее выражение: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n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Случай 1.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ределение вероятности отказа производится пропорционально количеству элементов, которое содержит каждая система, т.е.: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n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ое распределение осуществляется для систем, время работы которых в течение цикла незначительно отличается от продолжительности цикла 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ц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≈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ц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значении вероятности отказа системы, определяемом по формул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) </a:t>
            </a:r>
            <a:r>
              <a:rPr b="1" i="1" lang="en-US" sz="2400" spc="-1" strike="noStrike">
                <a:solidFill>
                  <a:srgbClr val="006633"/>
                </a:solidFill>
                <a:latin typeface="Symbol"/>
                <a:ea typeface="Symbol"/>
              </a:rPr>
              <a:t></a:t>
            </a:r>
            <a:r>
              <a:rPr b="1" i="1" lang="ru-RU" sz="24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US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ru-RU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интенсивность отказов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й системы, зависимость между вероятностью отказа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количеством элементов в системе n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меет линейный характе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чение весового коэффициента определяется по формул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0" i="1" lang="ru-RU" sz="2400" spc="-1" strike="noStrike">
                <a:solidFill>
                  <a:srgbClr val="006633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0" i="1" lang="ru-RU" sz="2400" spc="-1" strike="noStrike">
                <a:solidFill>
                  <a:srgbClr val="006633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i="1" lang="ru-RU" sz="2400" spc="-1" strike="noStrike" baseline="-25000">
                <a:solidFill>
                  <a:srgbClr val="006633"/>
                </a:solidFill>
                <a:latin typeface="Arial"/>
              </a:rPr>
              <a:t>ср</a:t>
            </a:r>
            <a:r>
              <a:rPr b="0" i="1" lang="ru-RU" sz="2100" spc="-1" strike="noStrike">
                <a:solidFill>
                  <a:srgbClr val="006633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число элементов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й системы;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1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среднее число элементов в одной системе (сборочной единице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число сборочных единиц, составляющих агрегат (машину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этом случае вероятность отказа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t) 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й системы определяется по формуле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21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ru-RU" sz="21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1" i="1" lang="en-US" sz="21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ru-RU" sz="2100" spc="-1" strike="noStrike" baseline="-25000">
                <a:solidFill>
                  <a:srgbClr val="006633"/>
                </a:solidFill>
                <a:latin typeface="Arial"/>
              </a:rPr>
              <a:t>ср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;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ru-RU" sz="2100" spc="-1" strike="noStrike" baseline="-25000">
                <a:solidFill>
                  <a:srgbClr val="006633"/>
                </a:solidFill>
                <a:latin typeface="Arial"/>
              </a:rPr>
              <a:t>ср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=1-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1" i="1" lang="ru-RU" sz="2100" spc="-1" strike="noStrike" baseline="-25000">
                <a:solidFill>
                  <a:srgbClr val="006633"/>
                </a:solidFill>
                <a:latin typeface="Arial"/>
              </a:rPr>
              <a:t>ср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)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Случай 2.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ределение вероятности отказа производится пропорционально времени работы системы в течение цикла, т.е.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ое распределение осуществляется для систем, в которых число элементов примерно одинаково, т.е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n 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 ≈ n 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с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Качество как объект упра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Порядок расчета показателей надежности изделий на этапе проект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лучай 3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спределение показателей надежности осуществляется пропорционально количеству элементов и времени работы системы в течение цикла, т.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26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1" i="1" lang="en-US" sz="26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en-US" sz="26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ое распределений осуществляется только в тех случаях, когда заранее известно количество элементов в отдельных системах и время их работы в течение цик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. Качество как объект управ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управлением качеством продук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следует понимать установление обеспечение и поддержание необходимого уровня качества продукции при ее разработке, производстве, эксплуатации или потреблении, осуществляемые путем систематического контроля качества и целенаправленного воздействия на условия и факторы, влияющие на качество проду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Задачи управления качеством продукции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ланирование и прогнозирование качества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бор оптимального варианта при проектировании новых видов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работка нормативно-технических документов на новые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оянный контроль качества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Задачи управления качеством продукции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ральное и материальное стимулирование исполнителей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держание и повышение качества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ттестация качества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Задачи управления качеством продукции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изменения качества продукции    в процессе ее производства и эксплуатации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работка научно обоснованных правил эксплуатации продукции и состава ЗИПа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ведение и осуществление постоянной информации по качеству проду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900000" y="1989000"/>
            <a:ext cx="7777440" cy="3959280"/>
            <a:chOff x="900000" y="1989000"/>
            <a:chExt cx="7777440" cy="3959280"/>
          </a:xfrm>
        </p:grpSpPr>
        <p:sp>
          <p:nvSpPr>
            <p:cNvPr id="98" name=""/>
            <p:cNvSpPr/>
            <p:nvPr/>
          </p:nvSpPr>
          <p:spPr>
            <a:xfrm>
              <a:off x="900000" y="198900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технического зад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89360" y="198900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технологического оборуд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79080" y="198900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материал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68800" y="198900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тру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3400" y="361188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изгот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5040" y="361188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прое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84400" y="503208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продук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4320" y="2901600"/>
              <a:ext cx="10850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89360" y="4524840"/>
              <a:ext cx="1899000" cy="50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788360" y="4524840"/>
              <a:ext cx="1899000" cy="50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93680" y="2901600"/>
              <a:ext cx="28940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83400" y="2901600"/>
              <a:ext cx="90432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688080" y="2901600"/>
              <a:ext cx="10850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513520" y="907200"/>
            <a:ext cx="42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Составляющие качества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2. Порядок расчета показателей надежности изделий на этапе проектирова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7:44:44Z</dcterms:created>
  <dc:creator>андрей</dc:creator>
  <dc:description/>
  <dc:language>en-US</dc:language>
  <cp:lastModifiedBy>RIS</cp:lastModifiedBy>
  <dcterms:modified xsi:type="dcterms:W3CDTF">2013-04-04T07:26:49Z</dcterms:modified>
  <cp:revision>6</cp:revision>
  <dc:subject/>
  <dc:title>Лекция  № 12 </dc:title>
</cp:coreProperties>
</file>